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903-A624-4F57-8901-44B278D1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DD6-1444-4A81-89E2-A7A7C8BF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332-6757-4297-A8A8-B04C478E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614-9A2E-4823-A0BE-8BD64915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746-FC43-4F92-97BC-08B39C08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1E9-4F06-44B8-A161-0EBC6429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291-B6F6-4787-BB3D-0C4E679C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0EC-4094-4397-BEBF-92445E61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33A-D41C-45C7-8D8E-5828F463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7F3-FA3A-4F70-B8D5-FA84268E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DF6-BD5B-46F6-8137-C9EF08E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3FD-6B22-4596-9ED5-8481E910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6F86-8CE4-4552-AFC2-595D4B1E22E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accharomyces cerevisiae"/>
          <p:cNvPicPr/>
          <p:nvPr/>
        </p:nvPicPr>
        <p:blipFill>
          <a:blip r:embed="rId1"/>
          <a:stretch/>
        </p:blipFill>
        <p:spPr>
          <a:xfrm>
            <a:off x="5500800" y="2143080"/>
            <a:ext cx="3286080" cy="3857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84360" y="260280"/>
            <a:ext cx="84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2920" y="2214720"/>
            <a:ext cx="5357880" cy="48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Contenidos.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Introducción. Definición de la Biotecnología. Sustrato, Agente biológico, proceso y producto. Escalas de un proceso. Biotecnología de primera, segunda, tercera y cuarta generación. Influencia de la Biotecnología en los sectores de Salud, Agropecuario y Agroindustrial.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Conclusiones. (2 hor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7 CuadroTexto"/>
          <p:cNvSpPr/>
          <p:nvPr/>
        </p:nvSpPr>
        <p:spPr>
          <a:xfrm>
            <a:off x="214200" y="1143000"/>
            <a:ext cx="85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INTRODUCCION AL ESTUDIO DE LA BIOTECNOLOG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pseudomon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826920" y="476280"/>
            <a:ext cx="748836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Verdana"/>
              </a:rPr>
              <a:t>AGENTE BI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(Microorganismos participantes en el proces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55640" y="33577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Mutantes natur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Verdana"/>
              </a:rPr>
              <a:t>Organismos Genéticamente modific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ermenter"/>
          <p:cNvPicPr/>
          <p:nvPr/>
        </p:nvPicPr>
        <p:blipFill>
          <a:blip r:embed="rId1"/>
          <a:stretch/>
        </p:blipFill>
        <p:spPr>
          <a:xfrm>
            <a:off x="4859280" y="549360"/>
            <a:ext cx="3960720" cy="561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404640"/>
            <a:ext cx="464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Verdana"/>
              </a:rPr>
              <a:t>PROCESO:</a:t>
            </a: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 Transformación, conversión o modificación de un sustrato por acción específica de los agentes biológicos para obtener productos de interé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0040" y="221436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Es el resultado del desarrollo de un proceso biotecnológic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Tiene que ser útil, fácil de obtener, duradero, con valor agregado y económicamente vi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ff"/>
                </a:solidFill>
                <a:uFillTx/>
                <a:latin typeface="Arial Unicode MS"/>
              </a:rPr>
              <a:t>ESCALAS DE UN PROCESO BIOTECNOLÓGIC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Laborato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Ban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Pilo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Semi-industr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Unicode MS"/>
              </a:rPr>
              <a:t>Industr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4859280" y="1773360"/>
          <a:ext cx="4105440" cy="48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773360"/>
                    <a:ext cx="410544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Arial Black"/>
              </a:rPr>
              <a:t>BIOTECNOLOGÍA DE PRIMERA, SEGUNDA, TERCERA Y CUARTA GENERACIÓ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IOTECNOLOGÍA DE PRIMERA GEN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sde  el año 6 000 a. C hasta principios del siglo X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356000" y="3429000"/>
            <a:ext cx="935280" cy="1511280"/>
          </a:xfrm>
          <a:prstGeom prst="downArrow">
            <a:avLst>
              <a:gd name="adj1" fmla="val 50000"/>
              <a:gd name="adj2" fmla="val 4039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628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Cultivo de plantas y domesticación de animales en el periodo Neolí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Descubrimiento de una tablilla babilónica que data de 6 000 a. C donde se describe la preparación de la cerve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Los Egipcios ya sabían fabricar pan 4 000 años antes a.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Los Sumerios eran capaces de fabricar cerca de veinte tipos de cervezas durante el Tercer Milenio a.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85840" y="571320"/>
            <a:ext cx="85723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Un ánfora con manchas de vino fue encontrada en Irán y se demostró que procedía de 3 500 años a.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En las sagradas escrituras se refieren el consumo de vino y leche fermentada por algunos de sus protagonis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Unicode MS"/>
              </a:rPr>
              <a:t>Existen otros procesos biotecnológicos conocidos desde la    antigüedad como la fabricación de quesos, leche ácida, cultivo de    champiñón, vinagre, alimento y bebidas fermentadas, entre 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BIOTECNOLOGÍA DE SEGUNDA GENERACIÓ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476360" y="4149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DESDE EL SIGLO XVII HASTA MEDIADOS DE LOS AÑOS 19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284720" y="2781360"/>
            <a:ext cx="718920" cy="1368360"/>
          </a:xfrm>
          <a:prstGeom prst="downArrow">
            <a:avLst>
              <a:gd name="adj1" fmla="val 50000"/>
              <a:gd name="adj2" fmla="val 4758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aboración de lentes de aumento por Antonie van Leeuwenhoek (siglo XVII) y observación de los microorganism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scubrimiento del carácter microbiano de la fermentación por Louis Pasteur en 186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1680" y="499680"/>
            <a:ext cx="854064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Técnica para la obtención de cultivos puros (Jodeph Lister, 1878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stablecimiento de las bases metabólicas del proceso de fermentación con el desarrollo de la Microbiología y la Bioquímic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scubrimiento de la penicilina por Alexander Fleming en 192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OBJETIV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9680" y="1356840"/>
            <a:ext cx="4071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troducir el concepto de biotecnología, profundizar en su evolución, así como destacar la influencian de la biotecnología en los sectores agropecuario y biofarmacéut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http://www.ciens.ucv.ve/icta/images/stories/instalaciones/biotecnologia/biotecnologia3.jpg"/>
          <p:cNvPicPr/>
          <p:nvPr/>
        </p:nvPicPr>
        <p:blipFill>
          <a:blip r:embed="rId1"/>
          <a:stretch/>
        </p:blipFill>
        <p:spPr>
          <a:xfrm>
            <a:off x="4786200" y="1857240"/>
            <a:ext cx="40719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ODUCTOS BIOTECNOLÓGIC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BIOINDUST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3132000" y="2060640"/>
            <a:ext cx="3095640" cy="2592360"/>
          </a:xfrm>
          <a:custGeom>
            <a:avLst/>
            <a:gdLst>
              <a:gd name="textAreaLeft" fmla="*/ 0 w 3095640"/>
              <a:gd name="textAreaRight" fmla="*/ 3096000 w 3095640"/>
              <a:gd name="textAreaTop" fmla="*/ 648000 h 2592360"/>
              <a:gd name="textAreaBottom" fmla="*/ 19443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1680" y="25992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ducción de la penicilina y otros antibiót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reactivos para el diagnó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alcohol industrial y de ácidos orgán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enz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aminoácidos y SC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biopesticidas, bioplaguicidas, compost y biofertiliz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biogá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tención de etileno, acetona y butan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oducción de vacu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 Black"/>
              </a:rPr>
              <a:t>PROCESO FERMENTATIV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3359160"/>
            <a:ext cx="854064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MENTACIÓN ALCOHÓ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FERMENTACIÓN HOMOLÁC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FERMENTACIONES MICROBIANA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midones (Amilas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acarosa (invertasas)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lucosa, galact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 fruct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elulosa (Celulas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ctosa   (Lacta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500720" y="1989000"/>
            <a:ext cx="360360" cy="3600720"/>
          </a:xfrm>
          <a:custGeom>
            <a:avLst/>
            <a:gdLst>
              <a:gd name="textAreaLeft" fmla="*/ 0 w 360360"/>
              <a:gd name="textAreaRight" fmla="*/ 129960 w 360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4 CuadroTexto"/>
          <p:cNvSpPr/>
          <p:nvPr/>
        </p:nvSpPr>
        <p:spPr>
          <a:xfrm>
            <a:off x="5429160" y="5000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LUC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5 Flecha abajo"/>
          <p:cNvSpPr/>
          <p:nvPr/>
        </p:nvSpPr>
        <p:spPr>
          <a:xfrm>
            <a:off x="6643800" y="4214880"/>
            <a:ext cx="571320" cy="8571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62728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D-GLUC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987640" y="105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-GLUCOSA-6-FOSF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203640" y="2060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-FRUCTOSA-6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059280" y="29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059280" y="3716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ÁCIDO PIRÚV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3132000" y="465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ACETALDEHIDO ACTIV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48000" y="566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ACETALDEH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39640" y="4076640"/>
            <a:ext cx="20163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ET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443640" y="3789360"/>
            <a:ext cx="201600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ACIDO LAC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24000" y="3068640"/>
            <a:ext cx="2376360" cy="368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LEVADU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940360" y="2492280"/>
            <a:ext cx="288144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BACTERIAS ÁCIDO LÁCTICAS, BIFIDOBACT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 flipH="1">
            <a:off x="1547640" y="5877000"/>
            <a:ext cx="187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1547640" y="458100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1547640" y="350028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7451640" y="3429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4284720" y="692280"/>
            <a:ext cx="0" cy="43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>
            <a:off x="4284720" y="1700280"/>
            <a:ext cx="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4284720" y="4005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4284720" y="5229360"/>
            <a:ext cx="0" cy="43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179280" y="404640"/>
            <a:ext cx="2952720" cy="2303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539640" y="620640"/>
            <a:ext cx="2448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lcohol, Cervezas, Pan, Vinos, Vinagr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5"/>
          <p:cNvSpPr/>
          <p:nvPr/>
        </p:nvSpPr>
        <p:spPr>
          <a:xfrm flipV="1">
            <a:off x="1547640" y="27079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940360" y="260280"/>
            <a:ext cx="2737080" cy="1800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6300720" y="69228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Queso, leche ácida, yogur, pa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 flipV="1">
            <a:off x="7451640" y="198900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1835280" y="62373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Rendimiento neto: 2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>
            <a:off x="5148360" y="4365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V="1">
            <a:off x="5148360" y="4005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84720" y="2421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PIRACIÓN MICROBIAN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D-GLUCO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CIDO PIRÚV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cetil-Co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76360" y="1341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AMINOÁCI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084720" y="1341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Ácidos Gr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796000" y="28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6084720" y="3357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is-aconit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300720" y="386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socit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580000" y="45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lfa-Oxogluta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635280" y="45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uccinil-C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979640" y="45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uccin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1547640" y="3860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umar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1547640" y="32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Mal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2124000" y="28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Oxalacé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3780000" y="3429000"/>
            <a:ext cx="1800000" cy="6426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ICLO DE KRE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270036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3851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493236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5940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258920" y="5877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ADENA DE TRANSPORTE ELECTRÓNICA Y SINTESIS DE ATP (FOSFORILACIÓN OXIDATI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4500720" y="2276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148360" y="1628640"/>
            <a:ext cx="1728720" cy="10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484360" y="1628640"/>
            <a:ext cx="1511280" cy="1152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>
            <a:off x="3564000" y="3068640"/>
            <a:ext cx="223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4500720" y="2924280"/>
            <a:ext cx="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6948360" y="364500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2050920" y="357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V="1">
            <a:off x="2050920" y="3213000"/>
            <a:ext cx="360360" cy="14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 flipH="1">
            <a:off x="6516360" y="414972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32"/>
          <p:cNvSpPr/>
          <p:nvPr/>
        </p:nvSpPr>
        <p:spPr>
          <a:xfrm flipH="1">
            <a:off x="5219280" y="472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33"/>
          <p:cNvSpPr/>
          <p:nvPr/>
        </p:nvSpPr>
        <p:spPr>
          <a:xfrm flipH="1">
            <a:off x="3203640" y="472428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34"/>
          <p:cNvSpPr/>
          <p:nvPr/>
        </p:nvSpPr>
        <p:spPr>
          <a:xfrm flipH="1" flipV="1">
            <a:off x="2124000" y="4220640"/>
            <a:ext cx="28728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Freeform 35"/>
          <p:cNvSpPr/>
          <p:nvPr/>
        </p:nvSpPr>
        <p:spPr>
          <a:xfrm>
            <a:off x="1336680" y="3097080"/>
            <a:ext cx="1473120" cy="234000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Freeform 36"/>
          <p:cNvSpPr/>
          <p:nvPr/>
        </p:nvSpPr>
        <p:spPr>
          <a:xfrm>
            <a:off x="1994040" y="4425840"/>
            <a:ext cx="1917720" cy="106848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37"/>
          <p:cNvSpPr/>
          <p:nvPr/>
        </p:nvSpPr>
        <p:spPr>
          <a:xfrm>
            <a:off x="5157720" y="4767120"/>
            <a:ext cx="243000" cy="5367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38"/>
          <p:cNvSpPr/>
          <p:nvPr/>
        </p:nvSpPr>
        <p:spPr>
          <a:xfrm>
            <a:off x="6291360" y="4853160"/>
            <a:ext cx="828720" cy="479160"/>
          </a:xfrm>
          <a:prstGeom prst="pie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39"/>
          <p:cNvSpPr/>
          <p:nvPr/>
        </p:nvSpPr>
        <p:spPr>
          <a:xfrm>
            <a:off x="3059280" y="5516640"/>
            <a:ext cx="1296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0"/>
          <p:cNvSpPr/>
          <p:nvPr/>
        </p:nvSpPr>
        <p:spPr>
          <a:xfrm flipH="1">
            <a:off x="4859280" y="5589720"/>
            <a:ext cx="122544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4211640" y="5516640"/>
            <a:ext cx="36036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42"/>
          <p:cNvSpPr/>
          <p:nvPr/>
        </p:nvSpPr>
        <p:spPr>
          <a:xfrm flipH="1">
            <a:off x="4642920" y="5516640"/>
            <a:ext cx="36036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3"/>
          <p:cNvSpPr/>
          <p:nvPr/>
        </p:nvSpPr>
        <p:spPr>
          <a:xfrm>
            <a:off x="6588000" y="530064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Black"/>
              </a:rPr>
              <a:t>Rto. neto: 38 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692360" y="2205000"/>
            <a:ext cx="2303280" cy="368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FER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580000" y="2276640"/>
            <a:ext cx="2016360" cy="368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RESPI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39640" y="3500280"/>
            <a:ext cx="2592360" cy="63144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ETAN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ÁCIDOS ORGÁN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724360" y="3645000"/>
            <a:ext cx="2953080" cy="3070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BIOMA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627280" y="2708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Black"/>
              </a:rPr>
              <a:t>Baja energí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7020000" y="28526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" sz="1200" spc="-1" strike="noStrike">
                <a:solidFill>
                  <a:srgbClr val="ffffff"/>
                </a:solidFill>
                <a:latin typeface="Arial Black"/>
              </a:rPr>
              <a:t>Alta energí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132000" y="3860640"/>
            <a:ext cx="25923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27672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Antagon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 flipH="1">
            <a:off x="1835280" y="2637000"/>
            <a:ext cx="57600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6804000" y="2708280"/>
            <a:ext cx="64764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2627280" y="2997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7308720" y="306864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38 AT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692360" y="9810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FERMENTACIÓN VS. RESPI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Black"/>
              </a:rPr>
              <a:t>BIOTECNOLOGÍA DE TERCERA GENERACIÓN O BIOTECNOLOGIA MODERN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1258920" y="4941720"/>
            <a:ext cx="68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DESDE LA DÉCADA DE 19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4211640" y="2997360"/>
            <a:ext cx="719280" cy="1871640"/>
          </a:xfrm>
          <a:prstGeom prst="downArrow">
            <a:avLst>
              <a:gd name="adj1" fmla="val 50000"/>
              <a:gd name="adj2" fmla="val 650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PRODUCTOS BIOTECNOLÓGICO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MANIPULACIÓN DEL AD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(OMG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3132000" y="2060640"/>
            <a:ext cx="3095640" cy="2089080"/>
          </a:xfrm>
          <a:custGeom>
            <a:avLst/>
            <a:gdLst>
              <a:gd name="textAreaLeft" fmla="*/ 0 w 3095640"/>
              <a:gd name="textAreaRight" fmla="*/ 3096000 w 3095640"/>
              <a:gd name="textAreaTop" fmla="*/ 522360 h 2089080"/>
              <a:gd name="textAreaBottom" fmla="*/ 156708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01680" y="3933360"/>
            <a:ext cx="854064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900000" y="333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ANTECED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907920"/>
            <a:ext cx="892980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descubre el ADN como material de los genes por Oswald Avery en 194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describe la estructura en doble hélice del ADN por Watson y Crick en 195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demuestra el mecanismos de replicación del AND por Mattew en 195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Se descubre la enzima que intervine en la síntesis de los ácidos nucleicos y su aislamiento (ADN polimerasa) por Koenberg en 195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55640" y="2060640"/>
            <a:ext cx="2160720" cy="30708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BIOTECNOLO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12000" y="2060640"/>
            <a:ext cx="2160360" cy="30708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Black"/>
              </a:rPr>
              <a:t>AGROINDUST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43280" y="3860640"/>
            <a:ext cx="4248360" cy="1618560"/>
          </a:xfrm>
          <a:prstGeom prst="rect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Verdana"/>
              </a:rPr>
              <a:t>La BIOTECNOLOGÍA permite: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Obtener productos de alto valor agregado a partir de materias primas y residuos de la producción agropecua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3716280"/>
            <a:ext cx="2952720" cy="36828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Black"/>
              </a:rPr>
              <a:t>MICROORGANISM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0920" y="4581360"/>
            <a:ext cx="1368360" cy="276480"/>
          </a:xfrm>
          <a:prstGeom prst="rect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Black"/>
              </a:rPr>
              <a:t>Beneficios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979640" y="4581360"/>
            <a:ext cx="1440000" cy="276480"/>
          </a:xfrm>
          <a:prstGeom prst="rect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Black"/>
              </a:rPr>
              <a:t>Perjudici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1547640" y="2708280"/>
            <a:ext cx="505080" cy="792000"/>
          </a:xfrm>
          <a:prstGeom prst="upDownArrow">
            <a:avLst>
              <a:gd name="adj1" fmla="val 50000"/>
              <a:gd name="adj2" fmla="val 3121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7020000" y="2492280"/>
            <a:ext cx="504720" cy="1224000"/>
          </a:xfrm>
          <a:prstGeom prst="upDownArrow">
            <a:avLst>
              <a:gd name="adj1" fmla="val 50000"/>
              <a:gd name="adj2" fmla="val 4827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71640" y="414972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2627280" y="414972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2987640" y="2133720"/>
            <a:ext cx="2879640" cy="288720"/>
          </a:xfrm>
          <a:prstGeom prst="leftRightArrow">
            <a:avLst>
              <a:gd name="adj1" fmla="val 50000"/>
              <a:gd name="adj2" fmla="val 1985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3564000" y="4869000"/>
            <a:ext cx="107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3564000" y="3933720"/>
            <a:ext cx="0" cy="93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3203280" y="39337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571680" y="0"/>
            <a:ext cx="567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Verdana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24000" y="5229360"/>
            <a:ext cx="1152360" cy="368280"/>
          </a:xfrm>
          <a:prstGeom prst="rect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Gram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124000" y="5229360"/>
            <a:ext cx="1152720" cy="368280"/>
          </a:xfrm>
          <a:prstGeom prst="rect">
            <a:avLst/>
          </a:prstGeom>
          <a:noFill/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Black"/>
              </a:rPr>
              <a:t>Gram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971640" y="48690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2627280" y="48690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000840" y="857160"/>
            <a:ext cx="2160360" cy="52020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ECTOR AGROPECU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22 Flecha abajo"/>
          <p:cNvSpPr/>
          <p:nvPr/>
        </p:nvSpPr>
        <p:spPr>
          <a:xfrm>
            <a:off x="6858000" y="1571760"/>
            <a:ext cx="50004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elucida el código genético en 196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identifican las enzima específicas que cortan y enlazan al ADN en 1970. Con este descubrimiento se logran las bases necesarias para modificar e intercambiar parte del ADN de un organismo vivo a otr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primera vez se logra introducir fragmentos de ADN  en una bacteria haciéndola capaz de sintetizar una proteína humana (insulin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49968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ducción de la insulina humana y la hormona del crecimiento por la bacteria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E. co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oducción de la vacuna contra la hepatitis B por la levadura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Pichia pastoris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lantas transgénicas para producir proteínas terapéutica y fárma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btención de anticuerpos monoclonales y su empleo en la terapia y diagnósticos de enferm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1680" y="499680"/>
            <a:ext cx="854064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mpleo de la PCR para el diagnóstico de infecciones virales, bacterianas o fún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Vacunas recombinantes que poseen mayor protección para su empleo en animales y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clonación somática en animales y plantas para la conservación de recursos gen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5"/>
          <p:cNvSpPr/>
          <p:nvPr/>
        </p:nvSpPr>
        <p:spPr>
          <a:xfrm>
            <a:off x="1042920" y="18900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CIÓN ESQUEMÁTICA DE LA OBTENCIÓN DE UNA PROTEÍNA RECOMBINANTE MEDIANTE INGENIERÍA GENÉ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BIOTECNOLOGÍA DE CUARTA GENE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900000" y="436572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Black"/>
              </a:rPr>
              <a:t>AÑOS 90 DEL SIGLO XX HASTA LA ACTU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4356000" y="2708280"/>
            <a:ext cx="863640" cy="1297080"/>
          </a:xfrm>
          <a:prstGeom prst="downArrow">
            <a:avLst>
              <a:gd name="adj1" fmla="val 50000"/>
              <a:gd name="adj2" fmla="val 3754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Genóm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Proteóm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Terapia génica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Medicina personaliza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GENOM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"/>
              </a:rPr>
              <a:t>Genoma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: Un genoma es la totalidad del ADN de un organismo vivo. Es decir, el conjunto completo de instrucciones genéticas para la construcción, funcionamiento y mantenimiento de dicho organism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El Proyecto Genoma Humano</a:t>
            </a:r>
            <a:r>
              <a:rPr b="1" lang="es-E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428480"/>
            <a:ext cx="85406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ordinado por el Instituto Nacional de Salud y el Departamento de Energía de los EEUU y realizado por laboratorios de Estados Unidos, Gran Bretaña y varios centros de investigación de Japón, Francia, Alemania y Ch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genes presentes en el ADN humano, determinar la secuencia de los 3 billones de pares de bases químicas que conforman el ADN humano, almacenar información en bases de datos y desarrollar herramientas para el procesamiento de análisis de los datos (software, hardware, automatización, etc)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royecto Genoma Humano se completó en 200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 Black"/>
              </a:rPr>
              <a:t>ALGUNOS RESULTADOS DEL PGH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enoma humano consta aproximadamente de 3.000 millones de pares de bases químicas (unidades que constituyen al AD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detectaron alrededor de 30.000 genes, cuyas secuencias ya han sido descrip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genes tienen en promedio 3.000 pares de ba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han determinado 100.000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limorfis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variaciones normales. Esto significa que todas las personas, a pesar de sus diferencias, tienen un 99,9 por ciento de similitud en su genom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 ser humano comparte con el chimpancé el 98% del geno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conoce la función de sólo el 50% del los ge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ólo el 2% del genoma lleva información para proteín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scalaIndustrial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258920" y="1052640"/>
            <a:ext cx="705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216000" y="1341360"/>
            <a:ext cx="9144000" cy="4029120"/>
            <a:chOff x="216000" y="1341360"/>
            <a:chExt cx="9144000" cy="4029120"/>
          </a:xfrm>
        </p:grpSpPr>
        <p:sp>
          <p:nvSpPr>
            <p:cNvPr id="72" name="Text Box 5"/>
            <p:cNvSpPr/>
            <p:nvPr/>
          </p:nvSpPr>
          <p:spPr>
            <a:xfrm>
              <a:off x="2843280" y="1341360"/>
              <a:ext cx="3745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ff0000"/>
                  </a:solidFill>
                  <a:latin typeface="Arial Black"/>
                </a:rPr>
                <a:t>PROCESOS TRANSFORMA-TIV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Text Box 6"/>
            <p:cNvSpPr/>
            <p:nvPr/>
          </p:nvSpPr>
          <p:spPr>
            <a:xfrm>
              <a:off x="216000" y="17316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6600"/>
                  </a:solidFill>
                  <a:latin typeface="Arial Black"/>
                </a:rPr>
                <a:t>ANT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6767640" y="17316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6600"/>
                  </a:solidFill>
                  <a:latin typeface="Arial Black"/>
                </a:rPr>
                <a:t>POSTERI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216000" y="4179240"/>
              <a:ext cx="34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 Black"/>
                </a:rPr>
                <a:t>MATERIAS PRIMAS DE INTERÉ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9"/>
            <p:cNvSpPr/>
            <p:nvPr/>
          </p:nvSpPr>
          <p:spPr>
            <a:xfrm>
              <a:off x="6000840" y="4179240"/>
              <a:ext cx="320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 Black"/>
                </a:rPr>
                <a:t>PRODUCTOS PARA HUMANOS Y ANIMA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AutoShape 10"/>
            <p:cNvSpPr/>
            <p:nvPr/>
          </p:nvSpPr>
          <p:spPr>
            <a:xfrm>
              <a:off x="2195640" y="1731600"/>
              <a:ext cx="720720" cy="587160"/>
            </a:xfrm>
            <a:prstGeom prst="leftArrow">
              <a:avLst>
                <a:gd name="adj1" fmla="val 50000"/>
                <a:gd name="adj2" fmla="val 30687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1020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6443640" y="1731600"/>
              <a:ext cx="576360" cy="58716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1830"/>
                </a:gs>
                <a:gs pos="100000">
                  <a:srgbClr val="ff00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1258920" y="2319120"/>
              <a:ext cx="504720" cy="1760760"/>
            </a:xfrm>
            <a:prstGeom prst="downArrow">
              <a:avLst>
                <a:gd name="adj1" fmla="val 50000"/>
                <a:gd name="adj2" fmla="val 87215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001020"/>
                </a:gs>
                <a:gs pos="100000">
                  <a:srgbClr val="ff0000"/>
                </a:gs>
              </a:gsLst>
              <a:lin ang="189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AutoShape 13"/>
            <p:cNvSpPr/>
            <p:nvPr/>
          </p:nvSpPr>
          <p:spPr>
            <a:xfrm>
              <a:off x="7667640" y="2319120"/>
              <a:ext cx="505080" cy="1760760"/>
            </a:xfrm>
            <a:prstGeom prst="downArrow">
              <a:avLst>
                <a:gd name="adj1" fmla="val 50000"/>
                <a:gd name="adj2" fmla="val 87153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001830"/>
                </a:gs>
                <a:gs pos="100000">
                  <a:srgbClr val="ff006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Text Box 14"/>
          <p:cNvSpPr/>
          <p:nvPr/>
        </p:nvSpPr>
        <p:spPr>
          <a:xfrm>
            <a:off x="3635280" y="3716280"/>
            <a:ext cx="230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252720" y="228600"/>
            <a:ext cx="9396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A PARTIR DEL PGH ES POSIBLE AVERIGUAR</a:t>
            </a:r>
            <a:r>
              <a:rPr b="0" lang="es-ES" sz="36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función de los ge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asociación entre genes y enfermeda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función de las regiones no codifica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información básica para la vid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 origen de las e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 origen de poblaciones human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LOS RESULTADOS DEL PGH PERMITIRÍA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jorar el diagnóstico de enferm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tectar temprano la predisposición a las enferm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señar racionalmente drogas y tratami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dentificar personas, resolver crímenes, medicina foren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8808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ROTEÓMICA: Conjunto de proteínas de un organismo. La proteómica estudio la expresión de las proteínas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Proteínas: Resultado directo de la actividad del AD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s proteínas intervienen en la síntesis de todas las moléculas, en su distribución y control, determinan las funciones de las célul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RAPIAS GENICAS: 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dificar el genoma humano alterándolo o manipulándolo.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TIPOS DE TERAPIAS GÉN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)Terapia genética somá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) Terapia genética en línea germ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 Black"/>
              </a:rPr>
              <a:t>INFLUENCIA DE LA BIOTECNOLOGÍA EN LOS SECTORES DE SALUD, AGROPECUARIO Y AGROINDUSTRIAL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ción de fármacos terapéu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ción de vacu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joramiento genético de pla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ción de plantas “in vitro” (micropropagación acelera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ioproductos para el control fitosanitario en la agric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ioproductos mejoradores de la fertilidad y productividad de los sue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iofertilizantes y bioestim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activos diagnósticos para la detección de enfermedades en plantas, animales y en el homb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les transgén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ducción de enzimas, aminoácidos, ácidos orgánicos, vitaminas y productos probió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 Black"/>
              </a:rPr>
              <a:t>CONCLUSION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26920" y="184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95280" y="1341360"/>
            <a:ext cx="8353440" cy="54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Evolucionado de la biotecnología y su impacto en la vida moderna, posibilidades para el futuro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ignificativa influencia en los sectores agropecuario y biofarmacéuticos. Se precisa continuar trabajando por producciones más ventajosas para los países subdesarrollados, el desarrollo y la transferencia de  tecnolog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Saccharomyces cerevisiae"/>
          <p:cNvPicPr/>
          <p:nvPr/>
        </p:nvPicPr>
        <p:blipFill>
          <a:blip r:embed="rId1"/>
          <a:stretch/>
        </p:blipFill>
        <p:spPr>
          <a:xfrm>
            <a:off x="0" y="0"/>
            <a:ext cx="1055376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1692360" y="62064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603360" y="2492280"/>
            <a:ext cx="854064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Lucida Calligraphy"/>
              </a:rPr>
              <a:t>GRACIA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95280" y="333360"/>
            <a:ext cx="8748720" cy="5624640"/>
            <a:chOff x="395280" y="333360"/>
            <a:chExt cx="8748720" cy="5624640"/>
          </a:xfrm>
        </p:grpSpPr>
        <p:sp>
          <p:nvSpPr>
            <p:cNvPr id="83" name="AutoShape 3"/>
            <p:cNvSpPr/>
            <p:nvPr/>
          </p:nvSpPr>
          <p:spPr>
            <a:xfrm>
              <a:off x="395280" y="333360"/>
              <a:ext cx="2160720" cy="1943280"/>
            </a:xfrm>
            <a:prstGeom prst="hexagon">
              <a:avLst>
                <a:gd name="adj" fmla="val 27797"/>
                <a:gd name="vf" fmla="val 11547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>
              <a:off x="755640" y="98100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Agente biológ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5"/>
            <p:cNvSpPr/>
            <p:nvPr/>
          </p:nvSpPr>
          <p:spPr>
            <a:xfrm>
              <a:off x="395280" y="3357720"/>
              <a:ext cx="2160720" cy="1942920"/>
            </a:xfrm>
            <a:prstGeom prst="hexagon">
              <a:avLst>
                <a:gd name="adj" fmla="val 27802"/>
                <a:gd name="vf" fmla="val 11547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>
              <a:off x="684360" y="4005360"/>
              <a:ext cx="158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Agente Biológic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059280" y="2276640"/>
              <a:ext cx="2160360" cy="1152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3203640" y="2421000"/>
              <a:ext cx="18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Material o sustra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9"/>
            <p:cNvSpPr/>
            <p:nvPr/>
          </p:nvSpPr>
          <p:spPr>
            <a:xfrm>
              <a:off x="6659640" y="2349360"/>
              <a:ext cx="1942920" cy="10810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10"/>
            <p:cNvSpPr/>
            <p:nvPr/>
          </p:nvSpPr>
          <p:spPr>
            <a:xfrm>
              <a:off x="6732720" y="263700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6372360" y="3573360"/>
              <a:ext cx="27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Útil para el homb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900000" y="5516640"/>
              <a:ext cx="7775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13"/>
            <p:cNvSpPr/>
            <p:nvPr/>
          </p:nvSpPr>
          <p:spPr>
            <a:xfrm>
              <a:off x="2268360" y="558972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Económicamente Viab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3132000" y="404640"/>
              <a:ext cx="554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"/>
                </a:rPr>
                <a:t>PROCESO BIOTECNOLÓGIC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15"/>
            <p:cNvSpPr/>
            <p:nvPr/>
          </p:nvSpPr>
          <p:spPr>
            <a:xfrm>
              <a:off x="5292720" y="2708280"/>
              <a:ext cx="1295280" cy="360360"/>
            </a:xfrm>
            <a:prstGeom prst="rightArrow">
              <a:avLst>
                <a:gd name="adj1" fmla="val 50000"/>
                <a:gd name="adj2" fmla="val 8986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AutoShape 16"/>
            <p:cNvSpPr/>
            <p:nvPr/>
          </p:nvSpPr>
          <p:spPr>
            <a:xfrm>
              <a:off x="2700360" y="3933720"/>
              <a:ext cx="1440000" cy="1008000"/>
            </a:xfrm>
            <a:custGeom>
              <a:avLst/>
              <a:gdLst>
                <a:gd name="textAreaLeft" fmla="*/ 252000 w 1440000"/>
                <a:gd name="textAreaRight" fmla="*/ 1044000 w 1440000"/>
                <a:gd name="textAreaTop" fmla="*/ 135000 h 1008000"/>
                <a:gd name="textAreaBottom" fmla="*/ 8730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2627280" y="836640"/>
              <a:ext cx="1368360" cy="936720"/>
            </a:xfrm>
            <a:custGeom>
              <a:avLst/>
              <a:gdLst>
                <a:gd name="textAreaLeft" fmla="*/ 239400 w 1368360"/>
                <a:gd name="textAreaRight" fmla="*/ 992160 w 1368360"/>
                <a:gd name="textAreaTop" fmla="*/ 125280 h 936720"/>
                <a:gd name="textAreaBottom" fmla="*/ 81144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50920" y="62064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MPACTO DE LA BIOTECNOLOGIA EN LA VIDA DEL HOMB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24922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Alimentación                  Sal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Verdana"/>
              </a:rPr>
              <a:t>Medio ambiente             Energí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Black"/>
              </a:rPr>
              <a:t>C. DEFINICIÓN DE BIOTECNOLOGÍA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 Unicode MS"/>
              </a:rPr>
              <a:t>Es el conjunto de tecnologías llevadas a cabo por el hombre con la utilización directa o indirecta de </a:t>
            </a:r>
            <a:r>
              <a:rPr b="1" lang="es-ES" sz="3200" spc="-1" strike="noStrike">
                <a:solidFill>
                  <a:srgbClr val="ff0000"/>
                </a:solidFill>
                <a:latin typeface="Arial Unicode MS"/>
              </a:rPr>
              <a:t>microorganismos</a:t>
            </a:r>
            <a:r>
              <a:rPr b="0" lang="es-ES" sz="3200" spc="-1" strike="noStrike">
                <a:solidFill>
                  <a:srgbClr val="ff0000"/>
                </a:solidFill>
                <a:latin typeface="Arial Unicode MS"/>
              </a:rPr>
              <a:t> y cultivos celulares de plantas y animales que conllevan  a la formación de productos con valor agregado y el máximo de eficiencia, economía y seguridad (Federación Europea de Biotecnología, 1978 Negrín, Pereira y Zumalacarregui, 1992; Bull, 1982, CIGB, 200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Lactobacillus G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 rot="271800">
            <a:off x="539280" y="62064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Black"/>
              </a:rPr>
              <a:t>CLASIFICACIÓN DE LA BIO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1280" y="1916280"/>
            <a:ext cx="8532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Black"/>
              </a:rPr>
              <a:t>Biotecnología Indus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Veg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An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médico-farmacéu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de los ali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de tratamiento de residu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Black"/>
              </a:rPr>
              <a:t>Biotecnología y Ener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ff"/>
                </a:solidFill>
                <a:uFillTx/>
                <a:latin typeface="Arial Black"/>
              </a:rPr>
              <a:t>SUSTRATO</a:t>
            </a:r>
            <a:r>
              <a:rPr b="1" lang="es-ES" sz="3600" spc="-1" strike="noStrike">
                <a:solidFill>
                  <a:srgbClr val="ffffff"/>
                </a:solidFill>
                <a:latin typeface="Arial Black"/>
              </a:rPr>
              <a:t> (MATERIA PRIMA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Tener bajo co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Ser capaz de transformarse por la acción de elementos vivos en un producto final con valor agreg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</a:rPr>
              <a:t>Pueden ser materiales orgánicos o inorgánicos (los subproductos de grandes industrias son sustratos altamente valorados para los procesos biotecnológic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1:24:09Z</dcterms:created>
  <dc:creator>XXX</dc:creator>
  <dc:description/>
  <dc:language>en-US</dc:language>
  <cp:lastModifiedBy>Mirialys</cp:lastModifiedBy>
  <dcterms:modified xsi:type="dcterms:W3CDTF">2012-05-11T16:31:59Z</dcterms:modified>
  <cp:revision>88</cp:revision>
  <dc:subject/>
  <dc:title>Diapositiva 1</dc:title>
</cp:coreProperties>
</file>